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28F-4A77-431E-A533-64EE71DC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C83-2571-45D4-AD10-326F19E4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68-C422-4912-92B6-B6732946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C39-8553-45CA-9EA6-A47483FC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40A-5262-42EF-9DB0-7C5BE9C2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824-B2BE-4FA1-B80F-6D19315F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B17-88FB-4216-A5A8-55DF7A7E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2BA-00B8-4B3F-B2CC-C58B9F3B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5A2-EE4E-4933-B8DF-5192566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2D6-0BF8-43F3-AE29-084EA296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81F-5E7E-47A6-A92F-860F7D2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A09-80E5-4309-9D25-3445446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9D6-1E9E-4D49-A925-8D7DF6DC6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 Jo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Cheok F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ng Shao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ng Jia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an 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3352680"/>
            <a:ext cx="2666880" cy="2590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houting out the answer or the question will be ski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be chosen at random by Ryan and Cheok F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joke is answered CORRECTLY, the participant will get a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ing harder questions will get you a better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0:25:12Z</dcterms:created>
  <dc:creator>Rosyth School</dc:creator>
  <dc:description/>
  <dc:language>en-US</dc:language>
  <cp:lastModifiedBy>Rosyth School</cp:lastModifiedBy>
  <dcterms:modified xsi:type="dcterms:W3CDTF">2011-10-25T00:37:30Z</dcterms:modified>
  <cp:revision>2</cp:revision>
  <dc:subject/>
  <dc:title>Q&amp;A Jokes!</dc:title>
</cp:coreProperties>
</file>